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39D-D05F-4F88-BBCF-53D0DA6BA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498-3AE5-4365-AD30-E81AAACFB8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3E24-F8DF-459F-97B6-B092A8128B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2460-90F2-46E7-A9D9-6DE2A4A370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0D53-8D2C-4149-9A46-C10245714B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BB9A-05A0-4ECD-9F3C-9FE49A8048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8086-45FB-4B15-9CA0-C34FB6C144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6FC4-290E-455E-9DF7-88607575BA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CA8-E6FC-4966-A9C9-D195BDDF04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FDA-FAA5-44B9-A119-053140BAE9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7396-0E33-45A9-9FE5-31C925030D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5096-7AFE-4575-8E66-F8C6C4D61B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7477-8F51-4A09-97F1-35F66E88C3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D74-38FB-4D0C-957C-477B885CDB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B2F-1896-4CDA-B16E-2BBB09FEE6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57B3-9A5C-4BC3-AE57-023CA7EF15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E94C-0606-4786-829C-34AF16002A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4F1-8407-4D53-981F-EBFBDF04B6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FCF0-E47C-4211-9688-36341CDDB1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C8F0-F7FF-4370-9897-547C87241B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A4BD-4A93-462B-A47E-735C719C46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AAD8-8B01-4981-89B7-375FCC8C4C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D379-A8FD-4A7B-A248-30C08F1C23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4E2-8726-44AF-8A4D-17E99110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D6E-770C-4F84-B081-727A1563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F15-F0C4-43CB-8E48-BB315946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319-1968-44FE-A99F-16CC8163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7397-CC8F-4EBF-A93F-FEA48186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F25-DF60-4D54-8E9E-335420E8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0448-8EA0-4EC1-9845-CF31B73D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62FB-EFC3-44D7-BE8C-2CDD682F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4EC0-B59F-46A3-B15D-6D148DAF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FA0E-3240-4489-A3A1-E140C8D3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4B81-DF29-4E3B-BC7A-22D3D285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460-71B6-4A0F-91C0-AF7D918E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B7DC-AFBF-4C20-BC12-7748AF7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F1AB-8052-4943-AC6D-3FF4862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9AF9-26B7-404D-89F6-2194F51E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2323-2A68-460B-89F2-D7BA7AAC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3CE9-D6DE-45CF-AEB4-9A125119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8D5-D3B9-494D-9B45-2D992759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F04-6692-4E4B-97AF-AFCD98B7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74E-0FFC-4DAF-8154-D666FBFE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F47-47F0-442D-849F-B8419A4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44E-609F-48C4-86E1-DBCB117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128-02DB-45E7-95E7-FCB8C785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7C0-283B-42CE-BF2B-E066DFB6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0B9A-AF04-4EA9-8B00-A98B56DBA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159B-B09E-4348-98D3-B842BC25E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14475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pital Budgeting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d Corporate Valuation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cing your expansion and determining the value of your compan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chinery Cost Savings Projec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2133720"/>
          <a:ext cx="7540920" cy="3216240"/>
        </p:xfrm>
        <a:graphic>
          <a:graphicData uri="http://schemas.openxmlformats.org/drawingml/2006/table">
            <a:tbl>
              <a:tblPr/>
              <a:tblGrid>
                <a:gridCol w="990720"/>
                <a:gridCol w="1163520"/>
                <a:gridCol w="1076400"/>
                <a:gridCol w="1079640"/>
                <a:gridCol w="1076400"/>
                <a:gridCol w="1077840"/>
                <a:gridCol w="10764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V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8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63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5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 F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0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Val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0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9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24"/>
          <p:cNvSpPr/>
          <p:nvPr/>
        </p:nvSpPr>
        <p:spPr>
          <a:xfrm>
            <a:off x="3958920" y="480060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ceeds the 12% hurd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28"/>
          <p:cNvSpPr/>
          <p:nvPr/>
        </p:nvSpPr>
        <p:spPr>
          <a:xfrm>
            <a:off x="2329200" y="5518080"/>
            <a:ext cx="37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 VALUE TOTAL IS 1024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aring Different Investment Opportunit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ver done exclusively on a quantitative approach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keting assump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eti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g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al Rate of Return (IRR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lculate the NPV to a zero fa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el offers formulas for both NPV and IR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ybac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long will it take to repay the amount of the capital invest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ncludes cash inflow from the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fitability Index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 of the present value of cash inflows divided by the present value of cash outfl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$100,000 investment will yield a $30,000 cash inflow for the next five years. 150000/100000 = 1.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 Hurdle Ra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ually is determined by WACC or weighted average cost of 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become subjec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sed on the portion of debt to equity and then using an asset pricing model (comparison) for weighting. Rather complica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mmon and accepted rate is 10-15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rporate 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ket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quidation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ounted 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ue of Future Earn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ff Balance 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ok Va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 the market valu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quals the total equity on the balance she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es not accurately depict depreciated asset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ery straight forw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rket Va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ket value verses Book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a P-E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ce to earnings rat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Assets – Liabilities in liquidations = Market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quidation Valu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cted net proceeds after expenses and taxes  of selling a company’s asse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ually the bottom l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pital Budge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ome statement provides some indication of profitability but not of true return value or value of capital invest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turn on capital should be measured on a cash-flow basis and take time into accou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placement Valu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times the cost of starting your own business rather than buying into one is desir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tarting a new business, one must compensate for marketing cost to meet sales projected. Very easy to underestim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ounted Cash Fl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sed on a three to five year cash projection much like a start-up busi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tilizing proven marketing history and weighted valuations to calculate the expected 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alue of Future Earning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lculating a multipli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ually 2-4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 income is increased each yea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of three years is accepted valued pr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ff Balance 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ues that are not identified as asse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e or rental contr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mailing 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llectual Proper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erienced Staf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uter Softw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pital Budgeting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e the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a dec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 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 corrective a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conomic value add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whether a business or investment is justified because its earnings exceed its cost of capit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times other factors justify investment or capital expansion, i.e. goodwill, business strategies, or personnel resour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antitative perspective includ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value of 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ounted cash flow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of pro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PV – Net Present Valu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l rate of retur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yba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fitability inde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me value of mone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urdle Rate – (Reinvestment rate or opportunity cost of fund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 rate used is 12%, but too low for start-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calculate future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ue plus intere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lculate Present value fa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 ÷ Future valu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ultiply present value and present value factor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70160" y="1827360"/>
          <a:ext cx="7088040" cy="3262320"/>
        </p:xfrm>
        <a:graphic>
          <a:graphicData uri="http://schemas.openxmlformats.org/drawingml/2006/table">
            <a:tbl>
              <a:tblPr/>
              <a:tblGrid>
                <a:gridCol w="1477800"/>
                <a:gridCol w="812880"/>
                <a:gridCol w="885600"/>
                <a:gridCol w="1035360"/>
                <a:gridCol w="1106280"/>
                <a:gridCol w="960480"/>
                <a:gridCol w="809640"/>
              </a:tblGrid>
              <a:tr h="84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ture Valu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Valu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o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8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1"/>
          <p:cNvSpPr/>
          <p:nvPr/>
        </p:nvSpPr>
        <p:spPr>
          <a:xfrm>
            <a:off x="1295280" y="54864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 value factor is equal to present value/future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ounted Cash Fl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cash outflows and infl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timate Ris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tilize the time value of 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et Present Va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sent value of all cash inflows and outflows from a capital expa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positive NPV is desir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34:14Z</dcterms:created>
  <dc:creator>David McNaughton</dc:creator>
  <dc:description/>
  <dc:language>en-US</dc:language>
  <cp:lastModifiedBy>User</cp:lastModifiedBy>
  <dcterms:modified xsi:type="dcterms:W3CDTF">2012-03-29T12:59:15Z</dcterms:modified>
  <cp:revision>7</cp:revision>
  <dc:subject/>
  <dc:title>Chapter 7  Capital Budgeting  and Corporate Valuation</dc:title>
</cp:coreProperties>
</file>